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3.jpeg" ContentType="image/jpeg"/>
  <Override PartName="/ppt/media/image23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laser.wav" ContentType="audio/x-wav"/>
  <Override PartName="/ppt/media/image27.jpeg" ContentType="image/jpeg"/>
  <Override PartName="/ppt/media/image17.png" ContentType="image/png"/>
  <Override PartName="/ppt/media/image28.gif" ContentType="image/gif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dt" idx="9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 type="ftr" idx="9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 type="sldNum" idx="9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EC1D-9FB5-4857-BFBD-FFBF40E2D9B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CEED-48A1-42A6-8D42-F9B83D6F10B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F944-806E-4165-901A-B16D0B5C492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E415-1A58-47E2-84D3-CD035A5F7E9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4D9A-987E-464B-98DD-2E1685D00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494A-0C77-4434-AE9C-C3632843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EA86C-DC87-4AF7-95EC-6814042B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5269B-725C-4B60-8409-EF868721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B1369-177A-4D45-94FB-A37BF747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1AB34-00AD-47BD-9E3D-ECB7BED2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CD4D3-B98A-4380-BCEE-2E58B16A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73235-D160-402E-A40A-5F3A9F8F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AE6F3-7FFD-417D-82A8-9AD230B6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549B0-14E8-45F6-A7F8-EAD7BAE37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A6592-4D73-4475-95ED-7269C356A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8213D-97C0-49CA-B4D0-84B6B8334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9E48-9FB6-4DC4-A205-EBD2AF3E6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72CA2C-92C7-4F36-BB77-C798E539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4D66A-72A8-47ED-A1C3-A1250B0C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D9A28-A56B-4170-9153-76DFD5C8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9720E-9EA3-47C7-87DB-FF831B0A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D5C4E-1299-419A-B513-76FAFACD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1A012-0AC8-4A5B-BF0F-58FEBC2A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BC7DC-6E98-48C8-ACF4-1784E1E3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9E792-595A-46D1-A487-68CEB796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072A7-570F-47F6-9196-D1B98EB1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A08834-E563-4E78-B3CC-5A37585E5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3E97-2AF1-4368-AA19-56532966F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BBECC-D4E5-4905-AAD7-E77C7CCC8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481CF-66AA-4C65-88CF-50FDA7CDC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4485C9-6D61-4ABA-9305-D12F85A7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3A510-5FCF-4195-93F0-F7DA6468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D4D3A3-68B0-47E0-80C0-8C6A430C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219A9-FF85-472A-90CC-E3266973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F13064-B2E8-419F-93A0-ED60C457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8B521-D1B7-4C1B-8363-AD25FB57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90D493-3D64-4739-89A8-C1A7226D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051F29-EBEC-4041-85C1-F7EADA8B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B1EF-541A-429C-81C7-B51A4276A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3604E4-BBA0-44ED-A4E8-5C5C1247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358CB8-94B5-4662-B3E3-ADA6485E9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86FFC-8112-4B7F-AAD6-2E2785313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399A8-DF72-401D-8C77-4173F690F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B2C76-E6B3-48FD-B8F1-93B219D9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D73A2-DE80-4136-BC4B-61A0AA91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68A90-E798-4B41-AC52-26AE6F31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73006-153C-4003-B699-C0A6D01C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A8CF4-2A65-4C1A-A099-FFFE8E1D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3D5A7-D8FA-4D0B-B7DD-FAF0CC84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B610-F871-4D62-9247-BDB6C08D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71262-3E27-45FD-BC84-AB4F9AF0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FC896-AF63-40E9-B5FA-2C6DD3A9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B4EF9-F418-4BCA-BFA7-199C8B55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25716-9DC6-443C-BCC7-74DF2A75B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61DF7-1195-4418-BA29-704372A41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854874-F0E7-4849-8555-5F6DD88BE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E895C5-3792-4A82-9422-452272F2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7E788E-2D5B-4912-8A28-AF721590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85A350-C2D5-4D44-ADFD-15693EFD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61D9F0-F533-4314-89E2-ECC0F3A0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7165-D3C8-4964-9A02-6C4C1EDC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FE0031-E504-4592-8286-2E4C6F46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1D3CA0-01B8-4AAB-B04B-CA0A841D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F4BE25-FD4F-4FDB-859F-900589CA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60E8D9-6566-4C54-9736-875E90ED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FD64AB-A9B4-472C-86C5-65DFCD50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F4F8E9-DAB6-4C08-A08F-1E9CAF545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6B73BD-CBF7-4C00-BFC7-D220BE859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2D2707-E43F-4246-A60A-8AF6F6C14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E47CBE-2A68-4149-9C4C-4B8EC6EA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0AA827-F6E4-42E7-9C9C-25FED6D0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CAD5-322C-46AB-88F7-837EF258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875B1B-315D-49D4-B859-BD4F06EE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2DD259-922F-4F4E-A870-45B1F0F5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9CA214-FED1-482C-82F5-437EEA1C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0DCDD5-DA34-4616-9986-9E21F0CF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442753-6AA6-4C16-965A-ADDFA08A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3505D7-35D8-4D56-9F2B-A397FC9A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957EF8-3F26-4DA9-8459-5FE7415E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7F4A5F-36EC-40E3-B92D-06D9AA8A3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368970-B3A6-4A2C-935A-1D9CA7081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2F767F-B216-4D6D-BA2E-1753FB4D9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1948-2963-42C6-BAFC-0C5345A5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93EC6F-A53C-48B7-BF9B-3121FA15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16BE64-1E1E-4E6F-A052-888D4A33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53EA4D-2CFD-477B-A107-119942D4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1315E0-450A-42B2-B428-706609B6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AD8341-99E5-432A-94AD-0DB457F1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BC259E-9B50-492F-8F2D-122B359F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AE3FBE-A684-426E-A0C5-7BFD9274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EF456B-1C0E-418D-B683-17B10FA7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07DFB8-1D8F-4560-8247-6E7BE425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DDBE48-2BF0-42AE-A5A3-F50818C21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0487-452D-432D-A020-B078966F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CD59FD-E9C8-48CB-9C26-9130DA84F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5136F0-A5A3-4720-A038-0C312D865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40EC76-2D47-49DF-A1B0-5DF553B7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CFC47B-D17C-4360-A5D7-01C60AE0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6B0307-EBD6-4CC0-8802-A2F95189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C011C4-A304-4EBC-9DA8-ED6D6C1E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81B9D0-BD44-4A63-B1AE-1D1CFFEF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41DF6E-4494-499F-9E13-85DF27BA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CB1BDE-70D3-44ED-B2CC-307905D9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F23D0D-48DC-4F18-A0E7-C18976AF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8C2B-8339-40C3-905D-9BB79ACF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F1D4F3-8B2B-4C8D-BAFC-39197E95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C7B182-C7AC-4D31-BE43-CE8160117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C0F112-70A3-4FC0-892A-600A52FDE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E9E04E-3E74-41F9-BCD0-E925C8974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12F9F3-7E7F-46DF-80B3-4BA1666B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7C1262-61D2-4985-B864-CEAFBD71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9990A5-19E4-4725-B86D-D3AC8427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ED9F0E-E3DD-4D68-BEC9-C7B42867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86F92D-C0C0-4E27-BB8C-3B8336B2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34A758-F83B-489F-B366-B59AABDB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FAFD-6708-4BF1-BE7F-0046BED6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AC8E-F013-4B0A-9108-E2482F69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132587-18C2-492D-A385-F28A0E66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E6A52B-ACC7-4B4A-B6FD-0C343F16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E5B1A3-AFBC-4C3B-84DD-61CCC720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06B0B3-88E7-4E56-9E06-D62D0D306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3B124E-49C1-43BD-ABFD-D77FDA79A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80A996-D452-4F37-BB28-F03FD3EDD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AE70DC-6433-49ED-9BD7-20FCCB9B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EA9647-614A-496A-9EEE-0BDFA238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C5CF0A-2682-4865-BD4B-821CE7BE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EC3612-8964-4DF9-8B27-919C7FE6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557C-1F70-4175-816F-D6D92193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828F59-0B8B-4AAF-9231-64AF1648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4B748D-BF0C-44E8-A37D-25D75D0E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65F1F8-C6B3-4ADB-B53A-13D29D29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5C73FE-19C2-4B2D-9ECD-4461134B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C425E5-EFEF-4C5E-BBDE-E80F2D17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81CF68-5064-445A-A5BC-984D4986F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8DBCFD-91CA-4A82-959A-74BE02393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50706E-BB63-45AF-B944-2141264DF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5FF157-F359-4221-882C-22DCF717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23F5F1-E6DC-4DE1-9FE1-9A0FA43A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0022-3EB9-4DAB-B522-F8B8E5EF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FDB994-399D-47A7-A711-27DBACEA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CA3ABC-F0C5-41B6-9EDB-715F4357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53AC2A-95F7-4036-A117-2DC53BAE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F974C3-1820-40DD-AD84-9D9D564A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5C63AF-55D4-4010-9612-18ED8729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6F1642-B4DA-4510-891E-0E8E3C93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04EA54-637C-44D3-BC71-C5A578BE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CE59B4-3ADC-4BF9-AAEE-9B16B36F3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D8C3CB-9A16-4ACC-A502-C543B83DA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508F89-78A5-4F60-B102-8E54CD25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7A70-84ED-4491-BFF0-3012658AD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526E47-753B-4170-8B84-3EEE92F2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D8C820-4374-4344-8380-BB7290B0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0A09C8-3837-468C-AB68-5AD713B4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3358B8-5C7A-409E-A136-ECD375A3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D23E6A-EED9-4AF2-9103-FB4FA387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022F8D-2632-4F9A-B93B-07A9A74D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EE505A-6D93-4C23-8F6E-4715F700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0A31BB-0E0C-4DED-A1D2-7CD31780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6D34C8-4502-4F04-9E5D-1F8FCC7D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CA659F-6BA6-494E-89A1-5CFCA4552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F40F-8D06-454E-B0A9-46E3968BF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013356-61BC-46ED-B48A-9F525F6B1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8EC640-4FFB-4401-8F01-585D506F6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8DA4BF-4D93-4295-95E5-734324A2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408978-3919-4DE0-8D5A-5A2B027C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2C6485-05CC-42C5-9D14-D5821BD2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E6546A-CC13-48BA-991A-CFDD8C65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D03DC6-A42E-4560-A792-4EDE9FCA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15AFE4-EB5B-4813-AFE1-61310321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8C2D1F-154C-44DC-A59C-A2FEDD73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AFEDFA-280D-4E49-9AF8-9F5FDC1F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45791-6BA5-48B9-A308-8FB06A635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63573E-55E9-4A9A-8813-B48BBF4C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E9DA45-21B1-4FF7-8199-9B325DE23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CF4EE5-083E-4178-A43E-8049AA8C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1BB572-F9C3-41F6-AB6D-3ADB0EFF2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D3244A-D471-4363-BE82-20800E46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47953C-3E44-40A5-B4E9-37920CA4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A335DB-3B69-4455-BB6A-5F2415E5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530A93-193E-4670-90DD-3B3FF31B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E3ACAA-DEC9-41A1-B493-438A4004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6C2EDC-DEDA-4134-AB7A-69B1867A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6D352-1A27-49F6-8C7B-F57D70BD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B44C44-FFF4-4A4D-B519-085FEE7D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B478F6-BE43-4235-8C74-EE95A441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BD3C2B-9240-4DC5-8DEE-F39DF9F6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7014AC-BAD6-49FE-9108-1C659F788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70C42E-0075-41ED-A0F9-3BB772C58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62D7EA-D13E-4AA5-B042-61455F684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E72A71-6D60-4037-83EB-282C0613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C92B49-228E-4A0A-9996-C0CA48CB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9CFF09-A442-4926-A4F3-CEB66EE3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D6531F-6DDC-40FE-BE45-6B0110B5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FA4ED-ABBA-4965-BA11-C74E7630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738079-1F3A-484A-A63B-7BCA4A8C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38CD2E-4283-4BFD-8008-CAC9D6C5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B92B8E-1D5C-46AA-9DF6-E2CE5084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FF691B-BBAA-4331-9DFE-4067B04E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68754B-E7A3-4B5B-A11B-79D30BF5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9E3F64-A4AA-43B7-9198-09E4B8C44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6336FA-1B9D-4A75-B07C-B12B11B9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F4BA6E-58D7-4785-B97D-FCDB8B731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B4F4C1-F2F6-4C43-88D8-856B35B9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4B7459-0B95-4F55-99DA-FB402E7A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99E18-B8C8-4F3D-9CEB-27A12E33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29134F-C054-4CA6-9E53-155899F5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3CFF40-AFEC-44C7-BD8A-5DF115EA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26AA1D-128A-4AD8-82C1-324D8B4C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0D6A10-16C9-4C3C-AD87-B71654C9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4258CB-8E46-4A65-9234-3353376A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064A4E-DA5C-4BC3-B4FC-37783D47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91F7CA-8B9E-43AC-BFD5-90216B0F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518B1D-78FD-439C-847D-ACC170547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93F51B-FDEC-46D8-8E4F-AA2955A9F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4C433C-AB63-4467-AFAB-D89C996BC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4954E-EE2D-4DA3-A84F-8510CF8A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202BEB-0562-46C1-961E-854E1DA5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C4F9A2-FBD6-485F-BEC9-834A03A8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AA9512-08B4-41E6-85AA-26329336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901CDD-8D2B-4F67-8001-5D89CF8A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F9CBDC-EA1D-40AA-89CE-163CE3D3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EF953B-2301-4A5C-B35F-15CBFBFA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4347A4-BF3E-4F32-9086-5091DE57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2F1AE9-6EA2-43F3-8644-D392B9D5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CF6CAA-70DD-4364-A5DE-D2FCCA0B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3663EA-B7EC-41B4-8373-17181D4C4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9BB4-85AE-472A-BDB1-3681A0FD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5AF90-9B3E-42BA-9A72-412C4F8D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965E74-4E47-4683-866C-9CF3EA53B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83DB74-8D3A-454A-9735-7BF94CD3A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2B4152-F08A-435E-AAB1-E39FEF45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ED526D-573C-4550-A32A-6A27F2F7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140162D-8D78-47E4-A4BE-3E72FA9E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4E02BB-5EB8-4ADA-9FB5-259B7604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CE7F3E6-CE57-4AD8-9527-B61C70F7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05DFD3-958A-4FC8-B92E-B1B2E09D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38F7BD-85CF-4049-B57A-7A322C59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157084-0FE0-4214-A735-1B30E29A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7F29A-16A8-4149-B624-215579DD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D06B485-04B6-490B-A3A1-6DB39F2D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76B5AA-FE21-446E-8A43-34D8BD8D2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B5B86A-97AB-4257-889C-9BFAE9E24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6977783-F91B-4CD6-AF63-DFF61ECD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70CDF5B-5D26-4DF2-9C89-B4413BD4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D5F1C5E-0AD7-4FED-9E77-F4CFBA5D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20448C-2759-4E00-AF07-BB238A33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C4176E-4D56-4749-A419-2028AFB2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AC3D2A6-46FF-46D0-A19C-39DD92DF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FA784C9-34D8-4571-B2C0-798FDD87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8EBF5-CE06-434F-8B58-0E3C08DD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576DCD-4586-42E1-92C2-6A8EE4CF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9C3DF2B-7699-4D53-B406-4BA0F2A2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ACEE0A-69A3-43CE-BC5C-0A46C47A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163CC0E-45ED-441E-900D-2C6F5AF36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E3635F0-BB4E-4682-BF02-9F2B44EAF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B726EE3-794E-42B2-8EC3-63D93CC0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07E240-8A55-4825-88B7-7D65F405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7850D6-1CB9-471B-839C-1D647DAA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B55A21C-A14D-40E0-AFB4-99D87AB8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6BAA526-6331-419C-BBFB-DF1BDB3B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5005D-60E3-4F77-978D-20B58A06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006218-29F8-4B6F-8FA9-64F746D0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3BBB6FD-AE48-4EC1-8C42-0EA89742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8960C0-8A2E-4B55-8DE8-2D5418FF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A04DF73-BDCF-40B1-966C-D1E68910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8D75221-5B38-4E03-B004-E283AB72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AEC7F1B-2882-4685-A012-988E730E9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D03D94F-09AE-46AA-A3BD-D597188E7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320E5FA-C684-4B2C-8537-3BF5B61CA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A179E43-FCCA-484D-BC35-8AD44C58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42C76FE-67FA-44EB-832E-B582876E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D27F0-1FC4-487B-AEA7-2E22193A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44B186E-4091-4F7A-8F92-5CA10492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D0B0E53-A9DB-48E9-8523-A2C402EB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8BE4A50-7791-40D5-BC40-3B2C33DB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AFC7229-5558-4AAD-A0F5-ABE1C889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C130CC1-D3FE-4777-A1A2-6856FE07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5E929C9-5AD4-4F27-BDBF-B43456ED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2A0FA39-5590-451F-B927-FD52B311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AAC523-D3CF-400B-A7C4-55F650AB7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5FBABD7-AB76-442B-85AB-C6D7381CF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45011C0-550D-47BE-87FC-E97FF561F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9EBA3-ACFB-43D7-9FE8-A3A9D1A0A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7A6C528-E663-4DC0-AAEC-CE62F8CA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F30D912-D13E-473D-A246-D52F4CDF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CB0ED1C-F9F0-4486-B0BD-1980CDB4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2B83C5A-2127-4C41-A21E-DC057A49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A845AFD-EC08-4ABE-9D47-85C05A95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C38E4BD-47B6-442C-84E3-CA2FBF25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B96E19A-5E20-454C-9EA5-9A8CD3E1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B533EDF-C84A-41BA-83DF-82F83CC4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95D7C25-92B3-4679-91EB-116D1458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40A450E-4099-45BC-B40B-A913DC9F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0A235-FD47-4849-8202-957EDB93D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458B339-D5B7-4FBB-BBB2-BAAF21DA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0607350-A2C3-4B69-A3F2-5D419E483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1A51400-73D0-4EC1-AAD4-39D5CA32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3B5F581-E446-460A-BCE1-0B2C6E54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F5B956-5CFA-4F06-9EFB-E813B8FB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DC42CAC-3E9A-4B14-9B07-95B014DC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F80D8C4-CE6D-430B-AE95-7A7B2C62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62781C4-29EB-48A8-B74F-930A3F30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9C3CD9C-494A-4EED-B6CB-2D640D2E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F7B2663-1C8E-46A5-8038-D798FBBC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90CCA-873C-4FDD-91BC-D68442FC0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03F5248-088E-4CBE-8EE1-624DADC7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D1095DD-E1B2-4BDA-BE81-B05AB81AD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F9D6201-2058-4592-8C08-A4C61CF38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95800-8888-4A1A-A09E-C5DD30B2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1B34E-7E87-4966-850C-000A8981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9833-876F-404F-99A5-4D024344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B443D-780A-4EE5-A987-8F9829A6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E37EB-BD7C-4356-A0A9-6A5C4CB4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35890-3D8C-4AF2-A3B3-527CAFFB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C91BE-D45A-439E-B2C9-2DD85CEF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C9300-361F-4905-BDBF-6EFB8B5B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9ACF9-B685-4213-8341-58A82D5A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C5009-85DD-495C-B9E7-0FE750B7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D8E18-8861-413F-9A6A-F45614539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07BEA-1EB4-4C77-A137-71506C3D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9C791-0A7A-47F9-A902-1FEFAE08F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7466-68AC-4845-9238-9F34A71E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C51A0-FD88-4B72-AA1C-E92AB390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FCD32-381E-4EAE-8E82-7C462DFB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916AF-E9DE-4767-B9BE-B73EB3F8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565AF-C80F-46A4-9A68-B1CC07B0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2CDEB-F26B-466E-9E16-1DAEA4CC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DE754-27FE-44A0-B2C3-77219678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4D9D6-123F-4464-9B2C-202E2A10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512C8-CD78-4C18-B66A-C9781B41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9BBB1-96A3-4902-9A7B-3DF237F6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C8CCB-4746-425A-BCC5-1637D5A12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D58A-0C86-4195-A7E7-FAFEE808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FB71F-234E-4813-8403-315FAB20F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26A06-1A27-419A-AA1D-D752E0F38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7E2DC-D383-415B-909E-B939F3D9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0B0F7-89DD-4851-8A34-824D7934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52BE6-D147-44E5-8427-CF11DAA4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8AB37-018C-493E-B1C3-99DD7D2D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816A0-D49F-4424-9557-4BC0A140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7C9A6-876E-4CA7-BABA-CA655880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FE03F-45EA-46A4-B3D8-527C9329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24046-FFF4-40F5-A2E7-49BAEA67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5229-59FF-453C-A10A-37C4A197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AD980-05CE-4452-94B1-753AF441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FD4C9-56FF-45D6-9DA4-2B2241E68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47B5E-FA2E-4C85-9D70-D52973CD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488E-390E-492A-AACB-1D87CBB5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A2C60-8FB2-45ED-A339-D567677B5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2C690-0E63-4D3E-8AA6-513D1001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E12A5-44C7-4F01-AB39-8AE03B16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FC503-A6D0-49E0-A27A-605CAF70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72461-550B-47B6-A022-A852F9FB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60BC-3E15-419D-BDA6-C1B74F55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66A7A-60A7-4A1E-A4D7-4E5F3970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66582-4849-45BA-9979-D2179E11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227F1-F7DC-4CC5-831A-9E36B5E4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CB8D5-84BD-4B22-AE5E-D4A6781D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07F3A-9795-42EA-9D4A-46E07680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77F92-0D1B-4145-818E-249BE9F95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74882-78B7-4C02-BF71-44647FA10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556B6-B657-4D20-AD26-F8800823E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B220D-B738-447C-A7BC-E0EFAAEA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AA527-3976-4120-A6C8-2C9A9EE9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AF14-8175-42C7-BC1A-296B38E7321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BD8C-95DF-48B8-B3A9-1C273A462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9EE8-9AED-4A18-821C-A8FBA9CDB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EBF8-0F29-4D44-A418-4C4E5C214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4F1E-DA96-493F-AA86-3FF2975BA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3964-B055-4A90-92DB-4FB783976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FDB4-1687-425B-BA9D-87C61E311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BE46-8108-4338-82DE-18092165F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6505-BEEB-4B94-9A3E-5F3650CFF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4B9F-2D97-40CC-8BC9-9EC7A0855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dt" idx="52"/>
          </p:nvPr>
        </p:nvSpPr>
        <p:spPr>
          <a:xfrm>
            <a:off x="324000" y="544464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sldNum" idx="54"/>
          </p:nvPr>
        </p:nvSpPr>
        <p:spPr>
          <a:xfrm>
            <a:off x="5724000" y="5013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2EA6-0AF8-499F-B929-E3AE38FACE3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CDA6-ABAF-4991-B4BA-93BBE0560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dt" idx="55"/>
          </p:nvPr>
        </p:nvSpPr>
        <p:spPr>
          <a:xfrm>
            <a:off x="324000" y="544464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sldNum" idx="57"/>
          </p:nvPr>
        </p:nvSpPr>
        <p:spPr>
          <a:xfrm>
            <a:off x="5724000" y="5013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5B9A-39D3-484E-8BCD-6F2874B5499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48F3-4E71-46D1-890A-E5F1ED071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5EF6-8AA0-463A-A264-F66CA35A7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8C3F-FAD8-491F-8121-73510F4B4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BDA9-959E-427E-8D68-7AF0881D2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DBBB-BD17-4FD6-BFE9-7BF0A8549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E468-5D82-497A-B8FF-66DFBC5FF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CFC0-1015-4891-A060-794C3E619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B012-142C-45E4-A16B-153844731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2800-ECC7-4FDE-956D-F1D15A6B2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086B-8D2E-401D-818A-705634001F9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5FC9-2F20-4A71-B7B5-D7E93007B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1B15-B2BA-4724-9D5F-F6958F627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42E6-AA7C-4D36-B663-24F3A505A66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30DC-52AE-4094-9754-188A73E67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dt" idx="16"/>
          </p:nvPr>
        </p:nvSpPr>
        <p:spPr>
          <a:xfrm>
            <a:off x="324000" y="544464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sldNum" idx="18"/>
          </p:nvPr>
        </p:nvSpPr>
        <p:spPr>
          <a:xfrm>
            <a:off x="5724000" y="5013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93CA-DDE9-4BD2-8868-F52411BC636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0F06-086B-49B2-9429-6F7957B31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B069-4D04-4990-8FD7-51160A416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直接连接符 4"/>
          <p:cNvSpPr/>
          <p:nvPr/>
        </p:nvSpPr>
        <p:spPr>
          <a:xfrm>
            <a:off x="4680" y="620640"/>
            <a:ext cx="91569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9" name="Picture 4" descr="b10bb84ca0bda82ccdc13e7ff7_560"/>
          <p:cNvPicPr/>
          <p:nvPr/>
        </p:nvPicPr>
        <p:blipFill>
          <a:blip r:embed="rId1"/>
          <a:stretch/>
        </p:blipFill>
        <p:spPr>
          <a:xfrm>
            <a:off x="152280" y="660240"/>
            <a:ext cx="8991720" cy="5334120"/>
          </a:xfrm>
          <a:prstGeom prst="rect">
            <a:avLst/>
          </a:prstGeom>
          <a:ln w="0">
            <a:noFill/>
          </a:ln>
        </p:spPr>
      </p:pic>
      <p:pic>
        <p:nvPicPr>
          <p:cNvPr id="1270" name="矩形 8" descr=""/>
          <p:cNvPicPr/>
          <p:nvPr/>
        </p:nvPicPr>
        <p:blipFill>
          <a:blip r:embed="rId2"/>
          <a:stretch/>
        </p:blipFill>
        <p:spPr>
          <a:xfrm>
            <a:off x="268200" y="549360"/>
            <a:ext cx="8223480" cy="944640"/>
          </a:xfrm>
          <a:prstGeom prst="rect">
            <a:avLst/>
          </a:prstGeom>
          <a:ln w="0">
            <a:noFill/>
          </a:ln>
        </p:spPr>
      </p:pic>
      <p:pic>
        <p:nvPicPr>
          <p:cNvPr id="1271" name="矩形 9" descr=""/>
          <p:cNvPicPr/>
          <p:nvPr/>
        </p:nvPicPr>
        <p:blipFill>
          <a:blip r:embed="rId3"/>
          <a:stretch/>
        </p:blipFill>
        <p:spPr>
          <a:xfrm>
            <a:off x="1407960" y="5084640"/>
            <a:ext cx="5181840" cy="992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25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25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25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250"/>
                            </p:stCondLst>
                            <p:childTnLst>
                              <p:par>
                                <p:cTn id="1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4" name="Picture 10" descr="009_JPG"/>
          <p:cNvPicPr/>
          <p:nvPr/>
        </p:nvPicPr>
        <p:blipFill>
          <a:blip r:embed="rId1"/>
          <a:stretch/>
        </p:blipFill>
        <p:spPr>
          <a:xfrm>
            <a:off x="179280" y="-27000"/>
            <a:ext cx="2340000" cy="1266840"/>
          </a:xfrm>
          <a:prstGeom prst="rect">
            <a:avLst/>
          </a:prstGeom>
          <a:ln w="0">
            <a:noFill/>
          </a:ln>
        </p:spPr>
      </p:pic>
      <p:pic>
        <p:nvPicPr>
          <p:cNvPr id="1325" name="矩形 1" descr=""/>
          <p:cNvPicPr/>
          <p:nvPr/>
        </p:nvPicPr>
        <p:blipFill>
          <a:blip r:embed="rId2"/>
          <a:stretch/>
        </p:blipFill>
        <p:spPr>
          <a:xfrm>
            <a:off x="85680" y="281160"/>
            <a:ext cx="2590920" cy="888840"/>
          </a:xfrm>
          <a:prstGeom prst="rect">
            <a:avLst/>
          </a:prstGeom>
          <a:ln w="0">
            <a:noFill/>
          </a:ln>
        </p:spPr>
      </p:pic>
      <p:sp>
        <p:nvSpPr>
          <p:cNvPr id="1326" name="Text Box 17"/>
          <p:cNvSpPr/>
          <p:nvPr/>
        </p:nvSpPr>
        <p:spPr>
          <a:xfrm>
            <a:off x="324000" y="1038240"/>
            <a:ext cx="8532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选择方框中的单词并用其适当形式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1.I have two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2.—Where 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the ball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—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They’re on the sof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3.Some girls are 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the tree(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树）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4.—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is your teach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—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She’ s in the ro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5. Is your English book 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the des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6.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pencils are in the ba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Rectangle 19"/>
          <p:cNvSpPr/>
          <p:nvPr/>
        </p:nvSpPr>
        <p:spPr>
          <a:xfrm>
            <a:off x="2124000" y="191628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at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8" name=""/>
          <p:cNvGraphicFramePr/>
          <p:nvPr/>
        </p:nvGraphicFramePr>
        <p:xfrm>
          <a:off x="826920" y="1547640"/>
          <a:ext cx="6624720" cy="800280"/>
        </p:xfrm>
        <a:graphic>
          <a:graphicData uri="http://schemas.openxmlformats.org/drawingml/2006/table">
            <a:tbl>
              <a:tblPr/>
              <a:tblGrid>
                <a:gridCol w="6624720"/>
              </a:tblGrid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re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，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，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，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der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，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tch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，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9" name="Rectangle 19"/>
          <p:cNvSpPr/>
          <p:nvPr/>
        </p:nvSpPr>
        <p:spPr>
          <a:xfrm>
            <a:off x="1908000" y="2398680"/>
            <a:ext cx="41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Rectangle 19"/>
          <p:cNvSpPr/>
          <p:nvPr/>
        </p:nvSpPr>
        <p:spPr>
          <a:xfrm>
            <a:off x="2627280" y="3336840"/>
            <a:ext cx="41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un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Rectangle 19"/>
          <p:cNvSpPr/>
          <p:nvPr/>
        </p:nvSpPr>
        <p:spPr>
          <a:xfrm>
            <a:off x="971640" y="374976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Rectangle 19"/>
          <p:cNvSpPr/>
          <p:nvPr/>
        </p:nvSpPr>
        <p:spPr>
          <a:xfrm>
            <a:off x="3203640" y="468648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Rectangle 19"/>
          <p:cNvSpPr/>
          <p:nvPr/>
        </p:nvSpPr>
        <p:spPr>
          <a:xfrm>
            <a:off x="900000" y="513720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hei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4" name="图片 1" descr=""/>
          <p:cNvPicPr/>
          <p:nvPr/>
        </p:nvPicPr>
        <p:blipFill>
          <a:blip r:embed="rId1"/>
          <a:stretch/>
        </p:blipFill>
        <p:spPr>
          <a:xfrm>
            <a:off x="-108000" y="219240"/>
            <a:ext cx="8640720" cy="6449760"/>
          </a:xfrm>
          <a:prstGeom prst="rect">
            <a:avLst/>
          </a:prstGeom>
          <a:ln w="0">
            <a:noFill/>
          </a:ln>
        </p:spPr>
      </p:pic>
      <p:sp>
        <p:nvSpPr>
          <p:cNvPr id="1335" name="WordArt 5"/>
          <p:cNvSpPr txBox="1"/>
          <p:nvPr/>
        </p:nvSpPr>
        <p:spPr>
          <a:xfrm>
            <a:off x="4427640" y="4653000"/>
            <a:ext cx="325908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376092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Homework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solidFill>
                <a:srgbClr val="376092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336" name="Text Box 6" descr=""/>
          <p:cNvPicPr/>
          <p:nvPr/>
        </p:nvPicPr>
        <p:blipFill>
          <a:blip r:embed="rId2"/>
          <a:stretch/>
        </p:blipFill>
        <p:spPr>
          <a:xfrm>
            <a:off x="1828800" y="1670040"/>
            <a:ext cx="5121360" cy="1963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WordArt 9"/>
          <p:cNvSpPr txBox="1"/>
          <p:nvPr/>
        </p:nvSpPr>
        <p:spPr>
          <a:xfrm>
            <a:off x="2971800" y="914400"/>
            <a:ext cx="45720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Thank you !</a:t>
            </a:r>
            <a:endParaRPr b="0" i="1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338" name="Picture 4" descr="www6Lucn0174"/>
          <p:cNvPicPr/>
          <p:nvPr/>
        </p:nvPicPr>
        <p:blipFill>
          <a:blip r:embed="rId2"/>
          <a:stretch/>
        </p:blipFill>
        <p:spPr>
          <a:xfrm>
            <a:off x="7524720" y="5373720"/>
            <a:ext cx="109548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2" name="Picture 2" descr="BAN_051"/>
          <p:cNvPicPr/>
          <p:nvPr/>
        </p:nvPicPr>
        <p:blipFill>
          <a:blip r:embed="rId1"/>
          <a:stretch/>
        </p:blipFill>
        <p:spPr>
          <a:xfrm>
            <a:off x="179280" y="160200"/>
            <a:ext cx="3814920" cy="792360"/>
          </a:xfrm>
          <a:prstGeom prst="rect">
            <a:avLst/>
          </a:prstGeom>
          <a:ln w="0">
            <a:noFill/>
          </a:ln>
        </p:spPr>
      </p:pic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-252360" y="115920"/>
            <a:ext cx="399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华文新魏"/>
                <a:ea typeface="华文新魏"/>
              </a:rPr>
              <a:t>自主预习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TextBox 7"/>
          <p:cNvSpPr/>
          <p:nvPr/>
        </p:nvSpPr>
        <p:spPr>
          <a:xfrm>
            <a:off x="1962000" y="996840"/>
            <a:ext cx="471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Calibri"/>
                <a:ea typeface="Arial"/>
              </a:rPr>
              <a:t>知道；了解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TextBox 12"/>
          <p:cNvSpPr/>
          <p:nvPr/>
        </p:nvSpPr>
        <p:spPr>
          <a:xfrm>
            <a:off x="4140360" y="12682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kno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6" name="图片 1" descr=""/>
          <p:cNvPicPr/>
          <p:nvPr/>
        </p:nvPicPr>
        <p:blipFill>
          <a:blip r:embed="rId2"/>
          <a:stretch/>
        </p:blipFill>
        <p:spPr>
          <a:xfrm>
            <a:off x="1220760" y="263700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1277" name="图片 2" descr=""/>
          <p:cNvPicPr/>
          <p:nvPr/>
        </p:nvPicPr>
        <p:blipFill>
          <a:blip r:embed="rId3"/>
          <a:stretch/>
        </p:blipFill>
        <p:spPr>
          <a:xfrm>
            <a:off x="3889440" y="2924280"/>
            <a:ext cx="2790720" cy="2095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8" name="Picture 2" descr="BAN_051"/>
          <p:cNvPicPr/>
          <p:nvPr/>
        </p:nvPicPr>
        <p:blipFill>
          <a:blip r:embed="rId1"/>
          <a:stretch/>
        </p:blipFill>
        <p:spPr>
          <a:xfrm>
            <a:off x="179280" y="160200"/>
            <a:ext cx="3814920" cy="792360"/>
          </a:xfrm>
          <a:prstGeom prst="rect">
            <a:avLst/>
          </a:prstGeom>
          <a:ln w="0">
            <a:noFill/>
          </a:ln>
        </p:spPr>
      </p:pic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-252360" y="115920"/>
            <a:ext cx="399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华文新魏"/>
                <a:ea typeface="华文新魏"/>
              </a:rPr>
              <a:t>自主预习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Text Box 2"/>
          <p:cNvSpPr/>
          <p:nvPr/>
        </p:nvSpPr>
        <p:spPr>
          <a:xfrm>
            <a:off x="468360" y="907920"/>
            <a:ext cx="882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二、重点短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TextBox 7"/>
          <p:cNvSpPr/>
          <p:nvPr/>
        </p:nvSpPr>
        <p:spPr>
          <a:xfrm>
            <a:off x="923760" y="1554120"/>
            <a:ext cx="4718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  <a:ea typeface="Arial"/>
              </a:rPr>
              <a:t>1. </a:t>
            </a:r>
            <a:r>
              <a:rPr b="0" lang="zh-CN" sz="2800" spc="-1" strike="noStrike">
                <a:solidFill>
                  <a:srgbClr val="002060"/>
                </a:solidFill>
                <a:latin typeface="Calibri"/>
                <a:ea typeface="Arial"/>
              </a:rPr>
              <a:t>在椅子下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  <a:ea typeface="Arial"/>
              </a:rPr>
              <a:t>2. </a:t>
            </a:r>
            <a:r>
              <a:rPr b="0" lang="zh-CN" sz="2800" spc="-1" strike="noStrike">
                <a:solidFill>
                  <a:srgbClr val="002060"/>
                </a:solidFill>
                <a:latin typeface="Calibri"/>
                <a:ea typeface="Arial"/>
              </a:rPr>
              <a:t>在他的书包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  <a:ea typeface="Arial"/>
              </a:rPr>
              <a:t>3. </a:t>
            </a:r>
            <a:r>
              <a:rPr b="0" lang="zh-CN" sz="2800" spc="-1" strike="noStrike">
                <a:solidFill>
                  <a:srgbClr val="002060"/>
                </a:solidFill>
                <a:latin typeface="Calibri"/>
                <a:ea typeface="Arial"/>
              </a:rPr>
              <a:t>他们的钥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TextBox 12"/>
          <p:cNvSpPr/>
          <p:nvPr/>
        </p:nvSpPr>
        <p:spPr>
          <a:xfrm>
            <a:off x="1260360" y="2152800"/>
            <a:ext cx="371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under the chair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TextBox 12"/>
          <p:cNvSpPr/>
          <p:nvPr/>
        </p:nvSpPr>
        <p:spPr>
          <a:xfrm>
            <a:off x="1260360" y="302904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in his schoolba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TextBox 12"/>
          <p:cNvSpPr/>
          <p:nvPr/>
        </p:nvSpPr>
        <p:spPr>
          <a:xfrm>
            <a:off x="1260360" y="4052880"/>
            <a:ext cx="33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their key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5" name="图片 13" descr=""/>
          <p:cNvPicPr/>
          <p:nvPr/>
        </p:nvPicPr>
        <p:blipFill>
          <a:blip r:embed="rId2"/>
          <a:stretch/>
        </p:blipFill>
        <p:spPr>
          <a:xfrm>
            <a:off x="5094360" y="2567160"/>
            <a:ext cx="2003400" cy="1153800"/>
          </a:xfrm>
          <a:prstGeom prst="rect">
            <a:avLst/>
          </a:prstGeom>
          <a:ln w="0">
            <a:noFill/>
          </a:ln>
        </p:spPr>
      </p:pic>
      <p:pic>
        <p:nvPicPr>
          <p:cNvPr id="1286" name="图片 2" descr=""/>
          <p:cNvPicPr/>
          <p:nvPr/>
        </p:nvPicPr>
        <p:blipFill>
          <a:blip r:embed="rId3"/>
          <a:stretch/>
        </p:blipFill>
        <p:spPr>
          <a:xfrm>
            <a:off x="5137200" y="907920"/>
            <a:ext cx="1919160" cy="1681200"/>
          </a:xfrm>
          <a:prstGeom prst="rect">
            <a:avLst/>
          </a:prstGeom>
          <a:ln w="0">
            <a:noFill/>
          </a:ln>
        </p:spPr>
      </p:pic>
      <p:pic>
        <p:nvPicPr>
          <p:cNvPr id="1287" name="图片 3" descr=""/>
          <p:cNvPicPr/>
          <p:nvPr/>
        </p:nvPicPr>
        <p:blipFill>
          <a:blip r:embed="rId4"/>
          <a:stretch/>
        </p:blipFill>
        <p:spPr>
          <a:xfrm>
            <a:off x="5361120" y="3720960"/>
            <a:ext cx="1974600" cy="1640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8" name="Picture 2" descr="BAN_051"/>
          <p:cNvPicPr/>
          <p:nvPr/>
        </p:nvPicPr>
        <p:blipFill>
          <a:blip r:embed="rId1"/>
          <a:stretch/>
        </p:blipFill>
        <p:spPr>
          <a:xfrm>
            <a:off x="130320" y="130320"/>
            <a:ext cx="3814560" cy="792000"/>
          </a:xfrm>
          <a:prstGeom prst="rect">
            <a:avLst/>
          </a:prstGeom>
          <a:ln w="0">
            <a:noFill/>
          </a:ln>
        </p:spPr>
      </p:pic>
      <p:sp>
        <p:nvSpPr>
          <p:cNvPr id="1289" name="Rectangle 3"/>
          <p:cNvSpPr/>
          <p:nvPr/>
        </p:nvSpPr>
        <p:spPr>
          <a:xfrm>
            <a:off x="-252360" y="115920"/>
            <a:ext cx="3992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华文新魏"/>
                <a:ea typeface="华文新魏"/>
              </a:rPr>
              <a:t>随堂导学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Text Box 95"/>
          <p:cNvSpPr/>
          <p:nvPr/>
        </p:nvSpPr>
        <p:spPr>
          <a:xfrm>
            <a:off x="250920" y="1014480"/>
            <a:ext cx="8566200" cy="22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  <a:ea typeface="Arial"/>
              </a:rPr>
              <a:t>(Ask and answer about the things in the classroom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  <a:ea typeface="Arial"/>
              </a:rPr>
              <a:t>you tell me where they are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  <a:ea typeface="Arial"/>
              </a:rPr>
              <a:t>Questions</a:t>
            </a:r>
            <a:r>
              <a:rPr b="1" lang="zh-CN" sz="2600" spc="-1" strike="noStrike">
                <a:solidFill>
                  <a:srgbClr val="002060"/>
                </a:solidFill>
                <a:latin typeface="Calibri"/>
                <a:ea typeface="Arial"/>
              </a:rPr>
              <a:t>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  <a:ea typeface="Arial"/>
              </a:rPr>
              <a:t>Where is your English book / pen / ruler…</a:t>
            </a:r>
            <a:r>
              <a:rPr b="1" lang="zh-CN" sz="2600" spc="-1" strike="noStrike">
                <a:solidFill>
                  <a:srgbClr val="002060"/>
                </a:solidFill>
                <a:latin typeface="Calibri"/>
                <a:ea typeface="Arial"/>
              </a:rPr>
              <a:t>？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1" name="图片 2" descr=""/>
          <p:cNvPicPr/>
          <p:nvPr/>
        </p:nvPicPr>
        <p:blipFill>
          <a:blip r:embed="rId2"/>
          <a:stretch/>
        </p:blipFill>
        <p:spPr>
          <a:xfrm>
            <a:off x="2422440" y="3357720"/>
            <a:ext cx="4429080" cy="2952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2" name="图片 1" descr=""/>
          <p:cNvPicPr/>
          <p:nvPr/>
        </p:nvPicPr>
        <p:blipFill>
          <a:blip r:embed="rId1"/>
          <a:stretch/>
        </p:blipFill>
        <p:spPr>
          <a:xfrm>
            <a:off x="301680" y="1268280"/>
            <a:ext cx="8734320" cy="3889440"/>
          </a:xfrm>
          <a:prstGeom prst="rect">
            <a:avLst/>
          </a:prstGeom>
          <a:ln w="0">
            <a:noFill/>
          </a:ln>
        </p:spPr>
      </p:pic>
      <p:pic>
        <p:nvPicPr>
          <p:cNvPr id="1293" name="内容占位符 5" descr=""/>
          <p:cNvPicPr/>
          <p:nvPr/>
        </p:nvPicPr>
        <p:blipFill>
          <a:blip r:embed="rId2"/>
          <a:stretch/>
        </p:blipFill>
        <p:spPr>
          <a:xfrm>
            <a:off x="-50760" y="23760"/>
            <a:ext cx="1527120" cy="1389240"/>
          </a:xfrm>
          <a:prstGeom prst="rect">
            <a:avLst/>
          </a:prstGeom>
          <a:ln w="0">
            <a:noFill/>
          </a:ln>
        </p:spPr>
      </p:pic>
      <p:sp>
        <p:nvSpPr>
          <p:cNvPr id="1294" name="Oval 101"/>
          <p:cNvSpPr/>
          <p:nvPr/>
        </p:nvSpPr>
        <p:spPr>
          <a:xfrm>
            <a:off x="257040" y="333360"/>
            <a:ext cx="930240" cy="765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79646"/>
                </a:solidFill>
                <a:latin typeface="Calibri"/>
              </a:rPr>
              <a:t>3a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Text Box 2"/>
          <p:cNvSpPr/>
          <p:nvPr/>
        </p:nvSpPr>
        <p:spPr>
          <a:xfrm>
            <a:off x="1258920" y="477720"/>
            <a:ext cx="771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ok at the pictures and complete the conversatio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TextBox 12"/>
          <p:cNvSpPr/>
          <p:nvPr/>
        </p:nvSpPr>
        <p:spPr>
          <a:xfrm>
            <a:off x="1619280" y="288936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TextBox 12"/>
          <p:cNvSpPr/>
          <p:nvPr/>
        </p:nvSpPr>
        <p:spPr>
          <a:xfrm>
            <a:off x="1639800" y="37069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TextBox 12"/>
          <p:cNvSpPr/>
          <p:nvPr/>
        </p:nvSpPr>
        <p:spPr>
          <a:xfrm>
            <a:off x="539640" y="413388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TextBox 12"/>
          <p:cNvSpPr/>
          <p:nvPr/>
        </p:nvSpPr>
        <p:spPr>
          <a:xfrm>
            <a:off x="4788000" y="288936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oo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TextBox 12"/>
          <p:cNvSpPr/>
          <p:nvPr/>
        </p:nvSpPr>
        <p:spPr>
          <a:xfrm>
            <a:off x="3706920" y="3348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TextBox 12"/>
          <p:cNvSpPr/>
          <p:nvPr/>
        </p:nvSpPr>
        <p:spPr>
          <a:xfrm>
            <a:off x="4140360" y="41497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TextBox 12"/>
          <p:cNvSpPr/>
          <p:nvPr/>
        </p:nvSpPr>
        <p:spPr>
          <a:xfrm>
            <a:off x="7307280" y="292104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TextBox 12"/>
          <p:cNvSpPr/>
          <p:nvPr/>
        </p:nvSpPr>
        <p:spPr>
          <a:xfrm>
            <a:off x="8045280" y="374652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TextBox 12"/>
          <p:cNvSpPr/>
          <p:nvPr/>
        </p:nvSpPr>
        <p:spPr>
          <a:xfrm>
            <a:off x="7596360" y="426420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choolb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5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图片 1" descr=""/>
          <p:cNvPicPr/>
          <p:nvPr/>
        </p:nvPicPr>
        <p:blipFill>
          <a:blip r:embed="rId1"/>
          <a:stretch/>
        </p:blipFill>
        <p:spPr>
          <a:xfrm>
            <a:off x="2443320" y="907920"/>
            <a:ext cx="6553080" cy="2686320"/>
          </a:xfrm>
          <a:prstGeom prst="rect">
            <a:avLst/>
          </a:prstGeom>
          <a:ln w="0">
            <a:noFill/>
          </a:ln>
        </p:spPr>
      </p:pic>
      <p:pic>
        <p:nvPicPr>
          <p:cNvPr id="1306" name="内容占位符 5" descr=""/>
          <p:cNvPicPr/>
          <p:nvPr/>
        </p:nvPicPr>
        <p:blipFill>
          <a:blip r:embed="rId2"/>
          <a:stretch/>
        </p:blipFill>
        <p:spPr>
          <a:xfrm>
            <a:off x="0" y="23760"/>
            <a:ext cx="1527120" cy="1389240"/>
          </a:xfrm>
          <a:prstGeom prst="rect">
            <a:avLst/>
          </a:prstGeom>
          <a:ln w="0">
            <a:noFill/>
          </a:ln>
        </p:spPr>
      </p:pic>
      <p:sp>
        <p:nvSpPr>
          <p:cNvPr id="1307" name="Oval 101"/>
          <p:cNvSpPr/>
          <p:nvPr/>
        </p:nvSpPr>
        <p:spPr>
          <a:xfrm>
            <a:off x="257040" y="333360"/>
            <a:ext cx="930240" cy="765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79646"/>
                </a:solidFill>
                <a:latin typeface="Calibri"/>
              </a:rPr>
              <a:t>3b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Text Box 2"/>
          <p:cNvSpPr/>
          <p:nvPr/>
        </p:nvSpPr>
        <p:spPr>
          <a:xfrm>
            <a:off x="1219320" y="309600"/>
            <a:ext cx="7745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sk and answer questions about the things on the righ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9" name="图片 2" descr=""/>
          <p:cNvPicPr/>
          <p:nvPr/>
        </p:nvPicPr>
        <p:blipFill>
          <a:blip r:embed="rId3"/>
          <a:stretch/>
        </p:blipFill>
        <p:spPr>
          <a:xfrm>
            <a:off x="722160" y="3594240"/>
            <a:ext cx="5077080" cy="30574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" dur="2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内容占位符 5" descr=""/>
          <p:cNvPicPr/>
          <p:nvPr/>
        </p:nvPicPr>
        <p:blipFill>
          <a:blip r:embed="rId1"/>
          <a:stretch/>
        </p:blipFill>
        <p:spPr>
          <a:xfrm>
            <a:off x="-50760" y="23760"/>
            <a:ext cx="1527120" cy="1389240"/>
          </a:xfrm>
          <a:prstGeom prst="rect">
            <a:avLst/>
          </a:prstGeom>
          <a:ln w="0">
            <a:noFill/>
          </a:ln>
        </p:spPr>
      </p:pic>
      <p:sp>
        <p:nvSpPr>
          <p:cNvPr id="1311" name="Oval 101"/>
          <p:cNvSpPr/>
          <p:nvPr/>
        </p:nvSpPr>
        <p:spPr>
          <a:xfrm>
            <a:off x="257040" y="333360"/>
            <a:ext cx="930240" cy="765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79646"/>
                </a:solidFill>
                <a:latin typeface="Calibri"/>
              </a:rPr>
              <a:t>3c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Text Box 2"/>
          <p:cNvSpPr/>
          <p:nvPr/>
        </p:nvSpPr>
        <p:spPr>
          <a:xfrm>
            <a:off x="1258920" y="333360"/>
            <a:ext cx="771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tudent A, look at the picture on page 19. Student B, look at the picture on the right. Ask and answer questions to find the differenc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3" name="图片 1" descr=""/>
          <p:cNvPicPr/>
          <p:nvPr/>
        </p:nvPicPr>
        <p:blipFill>
          <a:blip r:embed="rId2"/>
          <a:stretch/>
        </p:blipFill>
        <p:spPr>
          <a:xfrm>
            <a:off x="3492360" y="1989000"/>
            <a:ext cx="5513400" cy="4362480"/>
          </a:xfrm>
          <a:prstGeom prst="rect">
            <a:avLst/>
          </a:prstGeom>
          <a:ln w="0">
            <a:noFill/>
          </a:ln>
        </p:spPr>
      </p:pic>
      <p:sp>
        <p:nvSpPr>
          <p:cNvPr id="1314" name="Text Box 2"/>
          <p:cNvSpPr/>
          <p:nvPr/>
        </p:nvSpPr>
        <p:spPr>
          <a:xfrm>
            <a:off x="257040" y="1111320"/>
            <a:ext cx="913932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: Where’s the schoolbag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s it under the tabl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: No, it isn’t. It’s on th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ab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5" name="Picture 6" descr="written"/>
          <p:cNvPicPr/>
          <p:nvPr/>
        </p:nvPicPr>
        <p:blipFill>
          <a:blip r:embed="rId1"/>
          <a:stretch/>
        </p:blipFill>
        <p:spPr>
          <a:xfrm>
            <a:off x="2049480" y="260280"/>
            <a:ext cx="828720" cy="1438200"/>
          </a:xfrm>
          <a:prstGeom prst="rect">
            <a:avLst/>
          </a:prstGeom>
          <a:ln w="0">
            <a:noFill/>
          </a:ln>
        </p:spPr>
      </p:pic>
      <p:grpSp>
        <p:nvGrpSpPr>
          <p:cNvPr id="1316" name="AutoShape 6"/>
          <p:cNvGrpSpPr/>
          <p:nvPr/>
        </p:nvGrpSpPr>
        <p:grpSpPr>
          <a:xfrm>
            <a:off x="2762280" y="444600"/>
            <a:ext cx="4333680" cy="896760"/>
            <a:chOff x="2762280" y="444600"/>
            <a:chExt cx="4333680" cy="896760"/>
          </a:xfrm>
        </p:grpSpPr>
        <p:pic>
          <p:nvPicPr>
            <p:cNvPr id="1317" name="AutoShape 6" descr=""/>
            <p:cNvPicPr/>
            <p:nvPr/>
          </p:nvPicPr>
          <p:blipFill>
            <a:blip r:embed="rId2"/>
            <a:stretch/>
          </p:blipFill>
          <p:spPr>
            <a:xfrm>
              <a:off x="2762280" y="444600"/>
              <a:ext cx="433368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8" name=""/>
            <p:cNvSpPr/>
            <p:nvPr/>
          </p:nvSpPr>
          <p:spPr>
            <a:xfrm>
              <a:off x="2881440" y="539640"/>
              <a:ext cx="410184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Lucida Sans"/>
                </a:rPr>
                <a:t>Grammar Focus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19" name="图片 1" descr=""/>
          <p:cNvPicPr/>
          <p:nvPr/>
        </p:nvPicPr>
        <p:blipFill>
          <a:blip r:embed="rId3"/>
          <a:stretch/>
        </p:blipFill>
        <p:spPr>
          <a:xfrm>
            <a:off x="3564000" y="1654200"/>
            <a:ext cx="3074760" cy="777960"/>
          </a:xfrm>
          <a:prstGeom prst="rect">
            <a:avLst/>
          </a:prstGeom>
          <a:ln w="0">
            <a:noFill/>
          </a:ln>
        </p:spPr>
      </p:pic>
      <p:pic>
        <p:nvPicPr>
          <p:cNvPr id="1320" name="图片 2" descr=""/>
          <p:cNvPicPr/>
          <p:nvPr/>
        </p:nvPicPr>
        <p:blipFill>
          <a:blip r:embed="rId4"/>
          <a:stretch/>
        </p:blipFill>
        <p:spPr>
          <a:xfrm>
            <a:off x="324000" y="2708280"/>
            <a:ext cx="8605800" cy="19861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WordArt 3"/>
          <p:cNvSpPr txBox="1"/>
          <p:nvPr/>
        </p:nvSpPr>
        <p:spPr>
          <a:xfrm>
            <a:off x="684360" y="115920"/>
            <a:ext cx="367164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Adobe Gothic Std B"/>
              </a:rPr>
              <a:t>Key point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Adobe Gothic Std B"/>
              <a:ea typeface="Adobe Gothic Std B"/>
            </a:endParaRPr>
          </a:p>
        </p:txBody>
      </p:sp>
      <p:sp>
        <p:nvSpPr>
          <p:cNvPr id="1322" name="Text Box 2"/>
          <p:cNvSpPr/>
          <p:nvPr/>
        </p:nvSpPr>
        <p:spPr>
          <a:xfrm>
            <a:off x="507960" y="662040"/>
            <a:ext cx="8601120" cy="18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TextBox 3"/>
          <p:cNvSpPr/>
          <p:nvPr/>
        </p:nvSpPr>
        <p:spPr>
          <a:xfrm>
            <a:off x="289080" y="836640"/>
            <a:ext cx="88200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e v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来；来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e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反义词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其搭配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e o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意为“快来，快点”或“加油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20000"/>
              </a:lnSpc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ink v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认为，想，思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think +(that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，意为“我认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。在变否定句时，常变主句，从句不变，即为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don’t think+…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短语有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nk o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认为，想起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nk abou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考虑，思考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nk…ove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仔细考虑，认真思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. their det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他（她，它）们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该词为一个物主代词，在句中作定语，修改名词。类似的还有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y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r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的，你们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s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r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她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s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它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r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们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i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s/ her/ it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复数，其人称代词的主格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y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格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2T12:36:09Z</dcterms:created>
  <dc:creator>Administrator</dc:creator>
  <dc:description/>
  <dc:language>en-US</dc:language>
  <cp:lastModifiedBy>微软用户</cp:lastModifiedBy>
  <dcterms:modified xsi:type="dcterms:W3CDTF">2015-06-13T09:25:00Z</dcterms:modified>
  <cp:revision>183</cp:revision>
  <dc:subject/>
  <dc:title>PowerPoint 演示文稿</dc:title>
</cp:coreProperties>
</file>